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009-5B53-4B99-A29D-C3261DF5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5CD-5505-42B5-8216-9405AD52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9D8-1446-4B2A-B5DF-97DCB7B0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82B-E25A-435A-A447-6549DDA4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74F-7308-464B-92BA-686C7296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C05-2CB5-4550-8717-FA086837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393-9FE8-4750-8424-E2077988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38D-34AB-4F14-A832-6BC4B4B4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2A0-40E1-49E6-B9FA-13F14077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00D-F94C-4FE8-9678-E00F440E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0EE-B9E3-4DA0-A529-06B8B6EB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27C-3B08-4DC7-B88B-CD1F75B4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527F-545B-4C75-8EEF-C70B0752A525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zent az Isten, szent, szen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zent az ég Ura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Szent az Isten, szent, szen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zent csak ő Maga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Végtelen nagy Iste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Nincsen kezdet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ndörökké Úr lesz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Véd erős kez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6524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ár lehetnék én i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zent, mint Istenem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éltóképp imádná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ár e földön lenn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nne vágy szívembe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tenem irán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ltárán elégni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Áldozat gyaná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66524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zent az Isten, szent, szen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Zengem éneké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ndörökké áldo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Végtelen kegyét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zt ígérte nékem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ogy meglátom Ő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zolgálok majd Néki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rónusa előt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66524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18:34:58Z</dcterms:created>
  <dc:creator>Gyügyei Tamás</dc:creator>
  <dc:description/>
  <dc:language>en-US</dc:language>
  <cp:lastModifiedBy>Gyügyei Tamás</cp:lastModifiedBy>
  <dcterms:modified xsi:type="dcterms:W3CDTF">2005-06-25T13:51:06Z</dcterms:modified>
  <cp:revision>22</cp:revision>
  <dc:subject/>
  <dc:title>PowerPoint bemutató</dc:title>
</cp:coreProperties>
</file>